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1.jpeg" ContentType="image/jpeg"/>
  <Override PartName="/ppt/media/image9.jpeg" ContentType="image/jpeg"/>
  <Override PartName="/ppt/media/image40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35.png" ContentType="image/png"/>
  <Override PartName="/ppt/media/image42.gif" ContentType="image/gif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3D3-4AB2-4E63-B0CA-7C2B37E9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6DD-DD67-4BC7-B5EE-7A53162C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D98-F9A0-4E6E-B684-E08D4A10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76D-E54B-44C7-B342-F023716D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68E3-7EB6-4230-A78F-85DBF8ED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EE5A-F279-4C17-9129-98C8CCC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73E8-F4F0-4759-B739-238AF2B1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4F16-3EB1-4E55-9812-2824A67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5A83-944A-482C-A0EB-A6232E9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8D99-2372-459C-B484-1AAB937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42A-EC8A-4645-9EDB-52436E4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1B4-6A11-4A6F-834A-FEF78F65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157-6A02-4EC7-958E-CBA9229A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6870-0A33-4A21-88AD-81686246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6788-9EA1-4798-A5E1-84CFD13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3974-1CA4-4CBC-A3BD-DDA89B0C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C8FF-6D26-4FEC-BD87-CEBD7967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9102-F15D-41E1-B848-4E8E78E2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E7DF-62E0-424E-8A4A-22B7A922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3981-04DA-4694-844D-CEBCEE7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AAA5-CC98-4CF0-A4D5-35EED100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6DA4-74D3-4AC8-90C5-F844D8EB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CB5-95C6-4C31-BC99-B9EC0063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FDA5-009C-404F-8D7F-15017972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0442-9EE3-4B4B-BC95-9913F24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4948-277E-4EA6-A1BE-0D99B0C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778F-7DDB-4058-87E0-68F47EF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CBD0-3954-4CF2-A13E-B5008B52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51C9-CC9B-46FA-BD82-B0A82929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6C81-8751-489D-8330-1A070C20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59A0-F452-4AB7-8FEE-A8D5B978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5790-F700-42AB-9E6A-433FE6C8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3745-2BBD-4E1E-9D4D-96162BA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F8D-E078-4CA4-9CB3-DE9EF47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79A98-3E0B-43AD-B33C-0900E999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372D-247A-4304-9715-2C654555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4F6B-A4A8-48B3-91A0-023CEB2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072C-AB77-48D3-B519-9553559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11F8-4040-4C9D-984F-400ACF95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915F2-4768-48E8-9A2D-6F24167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47E3B-C0DA-437C-98A3-FD46E3F0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F79D-FAE3-427A-9960-50DCC7F1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2EFB4-D40D-4868-8E12-AE6D7670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3EE7C-D619-42CB-8B59-E9A24365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F37-7075-40D3-91E3-1CCD6763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76ADB-5845-4699-B973-17961AB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EB27-8A09-4749-AE50-EF67A305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CDD9A-A507-477D-8798-C4369493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21EE-EAE9-4355-9521-0FB2129B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9DD6-7264-433E-B76A-685464D1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6848-0DB1-43A4-BED3-7576584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C641-75BD-48D1-81C7-16B811D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0CFF-6804-401F-A45A-9AFEA605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02852-3759-401E-82F2-1A741129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99B2B-37AA-4157-9EA5-AB175D8C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39C-1456-455F-85CA-A8C5163B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4B0B-9D50-4178-BAFF-39FEE5CB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9E738-BD4B-4040-B53F-7CC469A3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E7C8C-2FD5-4EEC-90A6-7CF6661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6F573-DEF7-4BE7-8B1B-E364E97D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6AA7D-D334-4E43-A032-402F4F59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6147-2416-4FBA-A4BB-D118261A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96F0B-4E79-4FFB-92B0-36BB310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28D3-3F51-4B53-8ABF-9B9D51A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1421-1FA6-4CB1-920F-F93BC11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C31A-A3D7-4468-9333-E0534E5B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1DF-46B8-4CDC-ADFF-62B0EE4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CD38B-7384-450D-919F-D5DE40B2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B78FD-DCB5-45DB-B4C5-3B2F1461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68F66-858D-4661-A9F4-EA713607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E24C-135B-4874-9B8F-F3F0FF05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EA87-F229-49CD-870E-FBC922D2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6A9CC-D04B-4A70-9D79-4356680B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312C7-08F0-40C7-B4BC-2B9CB74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155DE-DF36-4B64-8E02-8BC449EB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4864E-14AC-479E-AC02-51E1218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19D6A-287B-4506-B03B-34994D6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238-0994-4527-9B08-16B2555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598B6-8D9D-445F-B882-D38134D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C3097-3630-4D24-BAE0-DAEA1F1C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550B3-EBD2-4943-A51B-E998E757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D332-4AA5-4316-A357-29D40689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E0592-5991-4B8B-92D1-4CF14969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173-7046-4ABC-B282-045612D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C0F-E2DE-461A-BF04-5B4A771AFEF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B0E-F17D-4890-AE7C-071ACF93018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E6E8-62A0-4B11-95E3-02CF1345DF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6C74-E2A7-4E31-9598-D3A33CFBD1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AC5D-6379-4686-AE3F-12C3057A0B0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8202-89EF-4235-A22B-6152A527378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B8C1-31B9-4540-9658-5C55106EBF8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82;&#1083;&#1080;&#1087;.pptx" TargetMode="Externa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4;&#1086;&#1088;&#1086;&#1075;&#1080;&#1077;%20&#1088;&#1086;&#1089;&#1089;&#1080;&#1103;&#1085;&#1077;!.mp4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 Видеороли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UN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304705-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29" name="WordArt 7"/>
          <p:cNvSpPr txBox="1"/>
          <p:nvPr/>
        </p:nvSpPr>
        <p:spPr>
          <a:xfrm>
            <a:off x="250920" y="333360"/>
            <a:ext cx="3960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Arial"/>
              </a:rPr>
              <a:t>...на жильё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331" name="Picture 2" descr="UN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993789-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WordArt 11"/>
          <p:cNvSpPr txBox="1"/>
          <p:nvPr/>
        </p:nvSpPr>
        <p:spPr>
          <a:xfrm>
            <a:off x="4427640" y="5300640"/>
            <a:ext cx="446400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..на свобод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690179-003"/>
          <p:cNvPicPr/>
          <p:nvPr/>
        </p:nvPicPr>
        <p:blipFill>
          <a:blip r:embed="rId1"/>
          <a:stretch/>
        </p:blipFill>
        <p:spPr>
          <a:xfrm>
            <a:off x="0" y="0"/>
            <a:ext cx="455148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WordArt 8"/>
          <p:cNvSpPr txBox="1"/>
          <p:nvPr/>
        </p:nvSpPr>
        <p:spPr>
          <a:xfrm>
            <a:off x="4284720" y="220500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на охрану здоровья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979009-010"/>
          <p:cNvPicPr/>
          <p:nvPr/>
        </p:nvPicPr>
        <p:blipFill>
          <a:blip r:embed="rId1"/>
          <a:stretch/>
        </p:blipFill>
        <p:spPr>
          <a:xfrm>
            <a:off x="0" y="0"/>
            <a:ext cx="454824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7" descr=""/>
          <p:cNvPicPr/>
          <p:nvPr/>
        </p:nvPicPr>
        <p:blipFill>
          <a:blip r:embed="rId2"/>
          <a:stretch/>
        </p:blipFill>
        <p:spPr>
          <a:xfrm>
            <a:off x="4091040" y="-291960"/>
            <a:ext cx="4735440" cy="236520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6"/>
          <p:cNvSpPr/>
          <p:nvPr/>
        </p:nvSpPr>
        <p:spPr>
          <a:xfrm>
            <a:off x="3166920" y="3716280"/>
            <a:ext cx="56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не достигшие совершеннолетия, не могут приобретать, хранить, коллекционировать и носить оружие, в том числе оружие самообор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504036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остижения 18-летнего возраста лица, состоящие на воинском учете и не имеющие оснований на освобождение или отсрочку от призыва, подлежат призыву на военную служб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3" descr="C:\Users\я\Desktop\Кл.час.готовый\i.jpg"/>
          <p:cNvPicPr/>
          <p:nvPr/>
        </p:nvPicPr>
        <p:blipFill>
          <a:blip r:embed="rId1"/>
          <a:stretch/>
        </p:blipFill>
        <p:spPr>
          <a:xfrm>
            <a:off x="4457880" y="2924280"/>
            <a:ext cx="45986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ларация прав челов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венция о правах ребен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итуция 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ый кодекс РФ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530280" y="549360"/>
            <a:ext cx="777240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49016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ту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статья подходит к каждой картин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Gong.mp3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17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714560" y="285480"/>
            <a:ext cx="4429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4643280" y="214200"/>
            <a:ext cx="421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4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5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6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на защиту от насилия, похищения или от любой другой формы эксплуа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2"/>
          <p:cNvGraphicFramePr/>
          <p:nvPr/>
        </p:nvGraphicFramePr>
        <p:xfrm>
          <a:off x="285840" y="714240"/>
          <a:ext cx="428616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428616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http://www.zateevo.ru/userfiles/image/Upalnamoch_Prava/008.jpg"/>
          <p:cNvPicPr/>
          <p:nvPr/>
        </p:nvPicPr>
        <p:blipFill>
          <a:blip r:embed="rId1"/>
          <a:stretch/>
        </p:blipFill>
        <p:spPr>
          <a:xfrm>
            <a:off x="4143240" y="428760"/>
            <a:ext cx="4714920" cy="61434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4"/>
          <p:cNvSpPr/>
          <p:nvPr/>
        </p:nvSpPr>
        <p:spPr>
          <a:xfrm>
            <a:off x="179280" y="549360"/>
            <a:ext cx="41436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9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жить со своими родителями, за исключением случаев, когда это невозмо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7950240" cy="14749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0320" y="1890360"/>
            <a:ext cx="8893080" cy="295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ffff"/>
                </a:solidFill>
                <a:latin typeface="Georgia"/>
              </a:rPr>
              <a:t>«Каждый ребенок- гражданин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1547640" y="4194000"/>
            <a:ext cx="82663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-360" y="115920"/>
            <a:ext cx="43578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4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ти имеют право получать медицинскую помощь и лечение таким способом, который наилучшим образом поможет им сохранить здоровье, а также получать информацию о способах лечения и об условиях, способных повлиять на их здоровь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2"/>
          <p:cNvGraphicFramePr/>
          <p:nvPr/>
        </p:nvGraphicFramePr>
        <p:xfrm>
          <a:off x="4459320" y="214200"/>
          <a:ext cx="46846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214200"/>
                    <a:ext cx="468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0" y="213840"/>
            <a:ext cx="4572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8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9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получение образования, которое даёт возможность развития личности ребёнка.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http://www.zateevo.ru/userfiles/image/Upalnamoch_Prava/017.jpg"/>
          <p:cNvPicPr/>
          <p:nvPr/>
        </p:nvPicPr>
        <p:blipFill>
          <a:blip r:embed="rId1"/>
          <a:stretch/>
        </p:blipFill>
        <p:spPr>
          <a:xfrm>
            <a:off x="0" y="21420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14560" y="0"/>
            <a:ext cx="485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7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достаточно хороший уровень жизни, соответствующий установленным стандартам. Это означает, что дети должны иметь еду, одежду и жильё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6" descr="http://www.zateevo.ru/userfiles/image/Upalnamoch_Prava/016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260280"/>
            <a:ext cx="3965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0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, принадлежащие к этническим, религиозным или языковым меньшинствам, имеют право пользоваться своей культурой, исповедовать свою религию и пользоваться родным язы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8" descr="E:\Documents and Settings\Admin\Мои документы\Мои рисунки\дети\clip_image002.gif"/>
          <p:cNvPicPr/>
          <p:nvPr/>
        </p:nvPicPr>
        <p:blipFill>
          <a:blip r:embed="rId1"/>
          <a:stretch/>
        </p:blipFill>
        <p:spPr>
          <a:xfrm>
            <a:off x="3786120" y="1143000"/>
            <a:ext cx="5143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682560" y="695160"/>
            <a:ext cx="7772400" cy="4894560"/>
          </a:xfrm>
          <a:prstGeom prst="rect">
            <a:avLst/>
          </a:prstGeom>
          <a:ln w="0">
            <a:noFill/>
          </a:ln>
        </p:spPr>
      </p:pic>
      <p:pic>
        <p:nvPicPr>
          <p:cNvPr id="361" name="Gong.mp3" descr=""/>
          <p:cNvPicPr/>
          <p:nvPr/>
        </p:nvPicPr>
        <p:blipFill>
          <a:blip r:embed="rId2"/>
          <a:stretch/>
        </p:blipFill>
        <p:spPr>
          <a:xfrm>
            <a:off x="7020000" y="522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117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я\Desktop\Кл.час.готовый\flag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0280" y="691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ретий ту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му герою они при­надлежа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Gong.mp3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117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28400" y="285840"/>
            <a:ext cx="19717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б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ри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14800" y="428760"/>
            <a:ext cx="22860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ш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раж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C:\Users\я\Desktop\Кл.час.готовый\Sherlock_holmes_pipe_hat.jpg"/>
          <p:cNvPicPr/>
          <p:nvPr/>
        </p:nvPicPr>
        <p:blipFill>
          <a:blip r:embed="rId1"/>
          <a:stretch/>
        </p:blipFill>
        <p:spPr>
          <a:xfrm>
            <a:off x="285840" y="3500280"/>
            <a:ext cx="1996920" cy="244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я\Desktop\Кл.час.готовый\i.jpg"/>
          <p:cNvPicPr/>
          <p:nvPr/>
        </p:nvPicPr>
        <p:blipFill>
          <a:blip r:embed="rId2"/>
          <a:stretch/>
        </p:blipFill>
        <p:spPr>
          <a:xfrm>
            <a:off x="2786040" y="2571840"/>
            <a:ext cx="2654280" cy="2000160"/>
          </a:xfrm>
          <a:prstGeom prst="rect">
            <a:avLst/>
          </a:prstGeom>
          <a:ln w="0">
            <a:noFill/>
          </a:ln>
        </p:spPr>
      </p:pic>
      <p:sp>
        <p:nvSpPr>
          <p:cNvPr id="369" name="Текст 2"/>
          <p:cNvSpPr/>
          <p:nvPr/>
        </p:nvSpPr>
        <p:spPr>
          <a:xfrm>
            <a:off x="6072120" y="571680"/>
            <a:ext cx="2459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кома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е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C:\Users\я\Desktop\Кл.час.готовый\875b3a48c20fbe4d6aabc26439ebe4ca.jpg"/>
          <p:cNvPicPr/>
          <p:nvPr/>
        </p:nvPicPr>
        <p:blipFill>
          <a:blip r:embed="rId3"/>
          <a:stretch/>
        </p:blipFill>
        <p:spPr>
          <a:xfrm>
            <a:off x="6000840" y="3143160"/>
            <a:ext cx="1314360" cy="180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Users\я\Desktop\Кл.час.готовый\кот.jpg"/>
          <p:cNvPicPr/>
          <p:nvPr/>
        </p:nvPicPr>
        <p:blipFill>
          <a:blip r:embed="rId4"/>
          <a:stretch/>
        </p:blipFill>
        <p:spPr>
          <a:xfrm>
            <a:off x="7000920" y="464328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3897360" cy="40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убка скрипк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у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C:\Users\я\Desktop\Кл.час.готовый\locandina-ufficiale-sherlock-holmes.jpg"/>
          <p:cNvPicPr/>
          <p:nvPr/>
        </p:nvPicPr>
        <p:blipFill>
          <a:blip r:embed="rId1"/>
          <a:stretch/>
        </p:blipFill>
        <p:spPr>
          <a:xfrm>
            <a:off x="5003640" y="333360"/>
            <a:ext cx="3529080" cy="527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74" name="Прямоугольник 3"/>
          <p:cNvSpPr/>
          <p:nvPr/>
        </p:nvSpPr>
        <p:spPr>
          <a:xfrm>
            <a:off x="4716360" y="551664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ерлок Хол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C:\Users\я\Desktop\Кл.час.готовый\Sherlock_holmes_pipe_hat.jpg"/>
          <p:cNvPicPr/>
          <p:nvPr/>
        </p:nvPicPr>
        <p:blipFill>
          <a:blip r:embed="rId2"/>
          <a:stretch/>
        </p:blipFill>
        <p:spPr>
          <a:xfrm>
            <a:off x="1116000" y="3933720"/>
            <a:ext cx="19969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0280" y="1268280"/>
            <a:ext cx="339408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ланш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уражк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5148360" y="5445000"/>
            <a:ext cx="28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Анис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Users\я\Desktop\Кл.час.готовый\post-2-12592420065767.jpg"/>
          <p:cNvPicPr/>
          <p:nvPr/>
        </p:nvPicPr>
        <p:blipFill>
          <a:blip r:embed="rId1"/>
          <a:stretch/>
        </p:blipFill>
        <p:spPr>
          <a:xfrm>
            <a:off x="3708360" y="566640"/>
            <a:ext cx="5243400" cy="4032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:\Users\я\Desktop\Кл.час.готовый\i.jpg"/>
          <p:cNvPicPr/>
          <p:nvPr/>
        </p:nvPicPr>
        <p:blipFill>
          <a:blip r:embed="rId2"/>
          <a:stretch/>
        </p:blipFill>
        <p:spPr>
          <a:xfrm>
            <a:off x="900000" y="4043520"/>
            <a:ext cx="23306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23640" y="-360"/>
            <a:ext cx="8358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азвитие правовой культуры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дач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у учащихся правильно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ние понятий «права» и «обязанности», единства прав и обязан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ать  знания детей об основных правах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уважения к высказываниям одноклассников, их прав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интеллектуальные и коммуникативные способности, сплотить классный коллекти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культуру об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274464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тел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и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6863040" y="5506920"/>
            <a:ext cx="224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ЭркюльПуар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C:\Users\я\Desktop\Кл.час.готовый\79322----.jpg"/>
          <p:cNvPicPr/>
          <p:nvPr/>
        </p:nvPicPr>
        <p:blipFill>
          <a:blip r:embed="rId1"/>
          <a:stretch/>
        </p:blipFill>
        <p:spPr>
          <a:xfrm>
            <a:off x="4643280" y="333360"/>
            <a:ext cx="3490920" cy="4869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C:\Users\я\Desktop\Кл.час.готовый\875b3a48c20fbe4d6aabc26439ebe4ca.jpg"/>
          <p:cNvPicPr/>
          <p:nvPr/>
        </p:nvPicPr>
        <p:blipFill>
          <a:blip r:embed="rId2"/>
          <a:stretch/>
        </p:blipFill>
        <p:spPr>
          <a:xfrm>
            <a:off x="611280" y="4302000"/>
            <a:ext cx="1314360" cy="180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:\Users\я\Desktop\Кл.час.готовый\кот.jpg"/>
          <p:cNvPicPr/>
          <p:nvPr/>
        </p:nvPicPr>
        <p:blipFill>
          <a:blip r:embed="rId3"/>
          <a:stretch/>
        </p:blipFill>
        <p:spPr>
          <a:xfrm>
            <a:off x="1619280" y="342900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530280" y="401760"/>
            <a:ext cx="7772400" cy="36036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3"/>
          <p:cNvSpPr/>
          <p:nvPr/>
        </p:nvSpPr>
        <p:spPr>
          <a:xfrm>
            <a:off x="0" y="486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каких же правах человека идет речь в этих отрывках из сказ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Gong.mp3" descr=""/>
          <p:cNvPicPr/>
          <p:nvPr/>
        </p:nvPicPr>
        <p:blipFill>
          <a:blip r:embed="rId2"/>
          <a:stretch/>
        </p:blipFill>
        <p:spPr>
          <a:xfrm>
            <a:off x="766764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117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530280" y="1047600"/>
            <a:ext cx="77724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30280" y="90792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.С. Пушкин. «Сказка о попе и его работнике Балде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Балда нанимается на работу к попу. Это значит, он восполь­зовался правом на..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530280" y="341280"/>
            <a:ext cx="77724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530280" y="765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усская народная сказка «Волк и семеро козлят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Козлятушки, детушк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опритеся,  отворитеся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аша мать пришла, молока принесл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жит молоко по вымечк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 копытечка на сыру землю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2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сская народная сказка «Три медвед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 доме было две комнаты: одна столовая, другая спальня. Девочка вошла в столовую и увидела на столе три чашки с похлеб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чашка была очень большая, была Михаилы Ивановича. Вторая чашка, поменьше, была Настасьи Петровны; третья, синенькая чашечка, была Мишуткина. Подле каждой чашки лежала ложка: большая, средняя и малень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вочка взяла самую большую ложку и похлебала из самой большой чашки; потом взяла среднюю ложку из самой средней чашки; потом взяла маленькую ложечку и похлебала из синенькой чашки, и Мишуткина похлебка ей показалась лучше всех 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0280" y="475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2" marL="9144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– Х. Андерсон. «Гадкий утено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Утенок взмахнул крыльями и полет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олечу-ка я к ним, к эим величавым птицам. Они, наверное, заклюют меня насмерть за то, что я, такой безобразный, осмелился приблизиться к ним. Но пусть! И он опустился в воду и поплыл навстречу прекрасным лебедям, которые, завидя его, тоже поплыли к нему. Он был уже не гадким темно-серым утенком, а лебедем…. А большие лебеди плавали вокруг и гладили его клювами 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530280" y="-42840"/>
            <a:ext cx="7772400" cy="75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0" y="-92160"/>
            <a:ext cx="903456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30280" y="90756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ином называют того человека , который ответственно относится не только к своим правам но и обязанностям, к другим людям и обществу в целом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682560" y="291960"/>
            <a:ext cx="7772400" cy="1586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320" y="1628280"/>
            <a:ext cx="9139320" cy="475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         Граждан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 Ответственный, законопослуш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Знать, выполнять, защища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. Гражданин – это человек , который живет в соответствии с правами и обязанностя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. Законопослушание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53028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флекси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- Вам понравилось наше мероприят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- Что понравилось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- Что бы вы изменили 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214880" y="213840"/>
            <a:ext cx="464328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Е,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ЯСЬ   СВОИМИ   ПРАВАМИ,   НАДО   УВАЖАТЬ ПРАВА ДРУГИХ ЛЮДЕ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4" descr="http://blago.katren.ru/assets/images/99_1.jpg"/>
          <p:cNvPicPr/>
          <p:nvPr/>
        </p:nvPicPr>
        <p:blipFill>
          <a:blip r:embed="rId1"/>
          <a:stretch/>
        </p:blipFill>
        <p:spPr>
          <a:xfrm>
            <a:off x="214200" y="3286080"/>
            <a:ext cx="4929480" cy="3409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H:\МАМА\Презентации\Сашина презентация\359504974.gif"/>
          <p:cNvPicPr/>
          <p:nvPr/>
        </p:nvPicPr>
        <p:blipFill>
          <a:blip r:embed="rId2"/>
          <a:stretch/>
        </p:blipFill>
        <p:spPr>
          <a:xfrm>
            <a:off x="357120" y="0"/>
            <a:ext cx="3357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Ерала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Дорогие россияне!.mp4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0280" y="98064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а и обязанности взаимосвязан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8" descr="593167-006"/>
          <p:cNvPicPr/>
          <p:nvPr/>
        </p:nvPicPr>
        <p:blipFill>
          <a:blip r:embed="rId1"/>
          <a:stretch/>
        </p:blipFill>
        <p:spPr>
          <a:xfrm>
            <a:off x="4186080" y="0"/>
            <a:ext cx="49579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WordArt 13"/>
          <p:cNvSpPr txBox="1"/>
          <p:nvPr/>
        </p:nvSpPr>
        <p:spPr>
          <a:xfrm>
            <a:off x="250920" y="2781360"/>
            <a:ext cx="453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на жизн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4" descr="ar2994-001"/>
          <p:cNvPicPr/>
          <p:nvPr/>
        </p:nvPicPr>
        <p:blipFill>
          <a:blip r:embed="rId1"/>
          <a:stretch/>
        </p:blipFill>
        <p:spPr>
          <a:xfrm>
            <a:off x="0" y="-936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WordArt 17"/>
          <p:cNvSpPr txBox="1"/>
          <p:nvPr/>
        </p:nvSpPr>
        <p:spPr>
          <a:xfrm>
            <a:off x="5388120" y="189000"/>
            <a:ext cx="37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учиться в школе 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азвиваться!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2" name="Прямоугольник 5"/>
          <p:cNvSpPr/>
          <p:nvPr/>
        </p:nvSpPr>
        <p:spPr>
          <a:xfrm>
            <a:off x="3995640" y="2781360"/>
            <a:ext cx="48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несовершеннолетний обязан получить основное общее 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324" name="Picture 2" descr="UN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g0718-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26" name="WordArt 7"/>
          <p:cNvSpPr txBox="1"/>
          <p:nvPr/>
        </p:nvSpPr>
        <p:spPr>
          <a:xfrm>
            <a:off x="2700360" y="5950080"/>
            <a:ext cx="42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..на сем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43:06Z</dcterms:created>
  <dc:creator>Пользователь</dc:creator>
  <dc:description/>
  <dc:language>en-US</dc:language>
  <cp:lastModifiedBy>user</cp:lastModifiedBy>
  <dcterms:modified xsi:type="dcterms:W3CDTF">2012-02-10T18:06:25Z</dcterms:modified>
  <cp:revision>66</cp:revision>
  <dc:subject/>
  <dc:title>Переменные: тип, имя, значение</dc:title>
</cp:coreProperties>
</file>